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1D3-C69F-4BE2-B1DC-EAC906AD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2E4-AAB6-46A3-AA5E-54DE3A7D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C49-3D1B-4142-AA49-58920D2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2E0-7A05-4EE5-A77A-D2027345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6C3-E17B-4A94-8282-A155D426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67E-8D66-4CA1-9E0B-C0FF97D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02F-F909-480B-952E-BDBE9D4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695-C2B0-4B29-94AE-F4D7873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4DC-EF12-4850-8F7A-BF3CA76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381-E35A-486E-A38A-9B82D0F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303-6AB9-462A-A830-160204D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CED-1A25-43C1-AEB2-9F81DE4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77B-EFDA-4CBC-AC47-A0BA7E6AE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Book Antiqua"/>
              </a:rPr>
              <a:t>Holocaust Review Game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43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y the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had the highest Jewish death to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Ger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Po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6477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bo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e Wie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imo L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aul Stein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Wladyslaw Szpil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31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800600" cy="33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80988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 way to identify R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A way to identify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A way to identify homosex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 way to identify the physically disab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8001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Nazi party member, owned Deutsche Emaillewaren-Fabrik and saved over 1,000 Jew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Victor Bo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Karl Plag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skar Schi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aoul Wall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35908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2284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14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dechai Rumkowski, leader of the Jewish administrative group in the Lodz Ghetto. What were these groups in every ghetto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Judenle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Judengru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Juden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denreg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96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ame did the Nazis add to every male Jew’s name in 1938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Yizh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Jos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53316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zi answer to the "Jewish question in Europe" reached at Wannsee in 1942 was called…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0"/>
            <a:ext cx="5639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 Final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 Final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 Final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085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67053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Nazi concentration and extermination camps were located in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West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South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The French-German B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Eastern 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5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28600"/>
            <a:ext cx="5715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ree were extermination cam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Buchenwald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bibor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Dachau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Drancy, Treblinka, Auschwit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94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496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Joseph Goeb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rman G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Josef Meng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Reinhard Heyd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71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18:28Z</dcterms:created>
  <dc:creator>Student</dc:creator>
  <dc:description/>
  <dc:language>en-US</dc:language>
  <cp:lastModifiedBy>Student</cp:lastModifiedBy>
  <dcterms:modified xsi:type="dcterms:W3CDTF">2008-05-01T04:00:34Z</dcterms:modified>
  <cp:revision>3</cp:revision>
  <dc:subject/>
  <dc:title>Holocaust Review Game</dc:title>
</cp:coreProperties>
</file>